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859229"/>
        <c:axId val="1952870"/>
      </c:barChart>
      <c:catAx>
        <c:axId val="218592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2870"/>
        <c:crosses val="autoZero"/>
        <c:auto val="1"/>
        <c:lblAlgn val="ctr"/>
        <c:lblOffset val="100"/>
        <c:noMultiLvlLbl val="0"/>
      </c:catAx>
      <c:valAx>
        <c:axId val="19528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8592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6673-8B18-484B-8F82-FFABBE164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6C8F-EF4F-4A59-B261-C6CA3964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6974-4123-4C99-96C4-D32BB0625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3BFD-3049-4F72-B82C-83AEED159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0645-3A8C-47AA-966E-09742051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64E1-36DC-478B-A107-BE674FD5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675A-B0E5-462E-9704-0C5C13E8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443F-0F7F-4EEA-9B64-0900EC3C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B4B0-F5E9-464B-8422-48CE241E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9C44-FE1D-4DBB-A024-3BEAB8F1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D1E4-01B8-4947-A69B-550AF055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8520-E398-4132-BE25-D5DE81E6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32716-7E06-42E1-89B3-7E5FAA0F44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