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40692"/>
        <c:axId val="60268828"/>
      </c:barChart>
      <c:catAx>
        <c:axId val="22440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68828"/>
        <c:crosses val="autoZero"/>
        <c:auto val="1"/>
        <c:lblAlgn val="ctr"/>
        <c:lblOffset val="100"/>
        <c:noMultiLvlLbl val="0"/>
      </c:catAx>
      <c:valAx>
        <c:axId val="60268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40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81C-7D01-4786-B682-CE14995E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29A-3879-4F0F-89DB-C840A49B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2DF-C879-40BB-9F31-D791EBD5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266-2EE9-4C6C-9F4D-09F28DA5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944-BC6E-4F7A-8713-671529D4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FA1-902D-4A94-B84E-B9A05180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C14-DC98-4F83-9776-27BD3DA5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E59-E35A-4F3D-B20D-7E8443D6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2D5-8865-42E3-AEA6-2E2009D5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33C-345C-4287-A8BA-BC7A5804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E11-F705-4128-853D-4450BCE7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237-19FA-40C3-8331-795A25B8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352EB-92D7-464A-AD21-902E4E09C4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