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79528"/>
        <c:axId val="91874728"/>
      </c:barChart>
      <c:catAx>
        <c:axId val="15879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74728"/>
        <c:crosses val="autoZero"/>
        <c:auto val="1"/>
        <c:lblAlgn val="ctr"/>
        <c:lblOffset val="100"/>
        <c:noMultiLvlLbl val="0"/>
      </c:catAx>
      <c:valAx>
        <c:axId val="91874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79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799-3656-47BA-BC2A-1E942FF4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F7D-0F6B-4FF9-86FD-C249067B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AE3-42DB-4B82-A19D-DD6E0D55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AE4-6779-48FC-95B8-65187C72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74B-BAA6-4561-8E07-E4F1CECB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FD6-0E83-4669-B43B-645CB21D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B88-4865-4F64-A1C4-7A6E35FF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382-A4BE-49F2-B9E7-A4B318F6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BBA-118D-4569-B181-4992C4AF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600-4192-4A68-B233-A1DB77F4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05C-55B7-4D00-82FF-47AB9424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175-E00F-4275-8BBB-304ED84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C97A5-8DBC-4F83-8FFD-82D7B54920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