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70869"/>
        <c:axId val="94509591"/>
      </c:barChart>
      <c:catAx>
        <c:axId val="73070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09591"/>
        <c:crosses val="autoZero"/>
        <c:auto val="1"/>
        <c:lblAlgn val="ctr"/>
        <c:lblOffset val="100"/>
        <c:noMultiLvlLbl val="0"/>
      </c:catAx>
      <c:valAx>
        <c:axId val="945095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70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B5E-84BA-4072-A3C9-CD953CA7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625-459D-4534-9DCB-3C42C3F5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004-ECA4-4270-8D34-449C6B46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D92-9E2B-4758-B535-4F979753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2CB-826C-447C-9FA6-B242F659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45F-9433-462D-B7B8-19B8B0FB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2D2-73C1-4863-975E-8E4FA3F3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662-9250-4BA0-B04F-AC34C83E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ED8-906E-4EF9-95DE-B9E1AC8D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111-9828-4706-AA9F-E0029300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68A-6C90-44BD-84FB-E8479483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3E4-D2DD-41CA-99FE-F07E3A69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686AD-CE15-445A-A27D-CC0EFA3132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