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79532"/>
        <c:axId val="12828871"/>
      </c:barChart>
      <c:catAx>
        <c:axId val="79379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28871"/>
        <c:crosses val="autoZero"/>
        <c:auto val="1"/>
        <c:lblAlgn val="ctr"/>
        <c:lblOffset val="100"/>
        <c:noMultiLvlLbl val="0"/>
      </c:catAx>
      <c:valAx>
        <c:axId val="12828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79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86B-9DCE-404C-A8AF-FF6443A8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40C-9732-4113-AB91-FF61A68B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7C8-7BF5-4C91-A32C-DB825F39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D77-EF95-4026-81EA-9A0C0B77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E72-313C-4303-A0AA-9CCBC9CA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7B0-08AB-422C-86DB-B6634BB4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7CF-8CE1-41C5-B91A-D8B1B82C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CDB-7F40-4442-AFA4-9F9867AA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85A-7825-4618-9E92-E0470455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61D-1E09-4BD2-845E-A47FAF8C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F9C-65B0-4CB7-B72A-87D5C955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BB9-936C-4B64-9F88-506DDC66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135FE-90A1-4E6B-85B5-0D0A041019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