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67779"/>
        <c:axId val="22109427"/>
      </c:barChart>
      <c:catAx>
        <c:axId val="36367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09427"/>
        <c:crosses val="autoZero"/>
        <c:auto val="1"/>
        <c:lblAlgn val="ctr"/>
        <c:lblOffset val="100"/>
        <c:noMultiLvlLbl val="0"/>
      </c:catAx>
      <c:valAx>
        <c:axId val="22109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67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0B7-72DB-4D8E-8A40-57369857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87B-C7D5-4BD9-BD41-CC0C5629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85C-FA8C-42B4-B1F7-BC267A75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2C5-C0B8-4A7C-929F-641C8ECA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7B0-9E48-4088-ABED-3661433E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0EB-DC10-47E7-9DFC-43149E77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2ED-DB49-455A-BADA-DF5F0D64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A75-EF34-43A8-8AE4-74F60F97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205-7EFC-43D1-9E9F-E3184172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997-B752-4AF6-833E-420293B3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2E9-DE9B-41B6-A0FC-018603C8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938-5193-42E6-8228-BC159085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885D7-704B-4C76-A806-2C97BF3C06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