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6212652"/>
        <c:axId val="79230375"/>
      </c:barChart>
      <c:catAx>
        <c:axId val="3621265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230375"/>
        <c:crosses val="autoZero"/>
        <c:auto val="1"/>
        <c:lblAlgn val="ctr"/>
        <c:lblOffset val="100"/>
        <c:noMultiLvlLbl val="0"/>
      </c:catAx>
      <c:valAx>
        <c:axId val="7923037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21265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2245D-8318-4BFD-BE5B-0E5EEB658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F7466-F2E4-4601-A330-CD6CE63BD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FE5AD-24B1-496E-A2C8-23C560C6F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83788-4363-4724-8AB0-26DF7CC18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6C9FA-B110-46F9-BBD9-F1599C241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8CA1F-F0EF-4383-AE1E-9D94FC99A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FF603-A818-489B-8CCE-950E62CA6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8E488-8D1A-45A2-86EA-BE23A2B55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2F7F1-44B0-4504-8FE9-51217D3AB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E0498-5E2E-4084-9553-837E17E19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9BFD2-46C1-4162-9282-B8BBF472A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145A6-97C9-4E64-9FDA-94E202783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E19254-D7EF-4143-AC32-491F410F733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