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432879"/>
        <c:axId val="70397582"/>
      </c:barChart>
      <c:catAx>
        <c:axId val="524328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397582"/>
        <c:crosses val="autoZero"/>
        <c:auto val="1"/>
        <c:lblAlgn val="ctr"/>
        <c:lblOffset val="100"/>
        <c:noMultiLvlLbl val="0"/>
      </c:catAx>
      <c:valAx>
        <c:axId val="703975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328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A9B1-30E5-450C-A516-9131F603A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9B73-122F-4D4F-B33F-5E78FF7F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9120-FA5A-4062-89FD-482390A14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DFBD-7F05-4990-A8BB-AC9581D88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A5CC-DE65-4C09-910E-F70916DA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3D93-2B15-464E-A689-BABBC277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5A69-649C-4413-B8FC-8877FC97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A755-6CFB-4B90-8638-51877B70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6D5F-AB31-4ABF-BB5A-3676F802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F3D1-A832-462F-BBE6-A180A654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07AF-FD44-4599-9E2E-C80F24BF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5909-C7FE-43F8-945F-A293E2AC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0958E3-E58F-4529-96D4-E0E308638E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