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560847"/>
        <c:axId val="26549384"/>
      </c:barChart>
      <c:catAx>
        <c:axId val="205608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549384"/>
        <c:crosses val="autoZero"/>
        <c:auto val="1"/>
        <c:lblAlgn val="ctr"/>
        <c:lblOffset val="100"/>
        <c:noMultiLvlLbl val="0"/>
      </c:catAx>
      <c:valAx>
        <c:axId val="265493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5608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D6F5-53C3-4EC7-9E6C-624390FE6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8ACC-B009-491D-93E4-514DE5DA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E789-110D-4A72-BA41-A0DA80768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B29D-3FE2-48BE-A188-F0B2E593A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49A0-DB2D-4558-9249-716B51A0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9FBA-75D1-4222-9064-D97D511A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16E9-53AC-4031-9BB7-D95A383B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C0D2-D041-4F31-98C5-7741DD2F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A49D-2F03-48F6-A132-92F81110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73CA-9309-4581-81B9-C3E1C542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23C8-9C0B-4119-AA74-2619B559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B3E9-31A8-408B-9948-4562E70A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1737E-2705-406B-992E-A1FD0DC9F5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