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59562"/>
        <c:axId val="50163935"/>
      </c:barChart>
      <c:catAx>
        <c:axId val="75459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63935"/>
        <c:crosses val="autoZero"/>
        <c:auto val="1"/>
        <c:lblAlgn val="ctr"/>
        <c:lblOffset val="100"/>
        <c:noMultiLvlLbl val="0"/>
      </c:catAx>
      <c:valAx>
        <c:axId val="50163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59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16C-5FFF-4C55-9806-579C4E22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3D6-DD92-41F8-9A77-1A9D0141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697-D8F4-4A00-8D83-244806EC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BB9-F8A8-4D26-9163-09B8C3CE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644-E8FC-4D54-9608-CEDF2437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C5C-1227-4E7D-B980-290088FC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7A6-46EB-4A45-9615-5BAF5521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FDB-6644-4C08-9382-226C3C50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C50-ED1A-407B-992E-34E6F613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350-4450-42D9-9BC2-52392FA4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9A0-E5DA-4346-8C54-0F13E657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08F-F4B0-4B17-8781-67AA75B7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B4D37-0F12-4483-98A0-A3E4529735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