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87156"/>
        <c:axId val="8738018"/>
      </c:barChart>
      <c:catAx>
        <c:axId val="33787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8018"/>
        <c:crosses val="autoZero"/>
        <c:auto val="1"/>
        <c:lblAlgn val="ctr"/>
        <c:lblOffset val="100"/>
        <c:noMultiLvlLbl val="0"/>
      </c:catAx>
      <c:valAx>
        <c:axId val="8738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87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716-174C-4462-8656-022F323B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F0B-D5DB-479A-83FE-1D62117B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60C-4CE5-4E5B-99F1-72A49E24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7A6-CE7B-4022-9A73-F8F12A66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CD0-46EF-4AD0-9878-17CF7114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F6B-3C8E-42D2-BD40-067421FA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F93-E967-44FD-9467-8B92C2BC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539-73D1-468E-8F7B-A0217589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4D2-AA23-4564-B53E-BD276661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F11-E9D6-4CB4-8186-6D65E69F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C37-9B0F-4577-BC2F-01B3F500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15B-423B-499F-A6EC-40C647E7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3459F-4C5D-475D-BD57-86FEE63BBC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