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35440"/>
        <c:axId val="73962860"/>
      </c:barChart>
      <c:catAx>
        <c:axId val="52435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62860"/>
        <c:crosses val="autoZero"/>
        <c:auto val="1"/>
        <c:lblAlgn val="ctr"/>
        <c:lblOffset val="100"/>
        <c:noMultiLvlLbl val="0"/>
      </c:catAx>
      <c:valAx>
        <c:axId val="73962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35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203-853F-4EA4-A45D-35CDFB41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872-0BD3-4607-87E3-118E2085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DC0-11D1-4BDE-9DFE-5A27E436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CBB-FE75-4A26-B52D-FC221999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C54-E446-4D03-ACE1-3F3B571B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54A-8E22-4052-B921-2C208A42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3E6-6EED-46A7-9D44-BD85116A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17E-D782-4B87-966B-B3647F8A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F05-0866-4A1A-ACC1-020D3F71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6D8-A975-4E59-8694-F6025CBA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59C-089B-4F5F-AABC-2DC0C8A8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4EC-1E60-4643-ACA8-D4CEF083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D838A-F936-4BBA-9317-05213DBC61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