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4394"/>
        <c:axId val="39451466"/>
      </c:barChart>
      <c:catAx>
        <c:axId val="897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1466"/>
        <c:crosses val="autoZero"/>
        <c:auto val="1"/>
        <c:lblAlgn val="ctr"/>
        <c:lblOffset val="100"/>
        <c:noMultiLvlLbl val="0"/>
      </c:catAx>
      <c:valAx>
        <c:axId val="39451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5E1-3E39-44ED-ADCA-7A683D37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EAE-83DE-460B-B47B-49CA908E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5A7-5D6A-4DF8-9356-E279BBC2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D35-222A-4ACC-9C1F-4156C8C8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D09-59D4-4101-9A11-233D191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905-24B9-4A01-AEB8-33534505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6C4-6CC0-49A3-BAD7-141B4E6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CDE-C60D-4501-8A07-7F06519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8B2-9724-4F79-9223-1D0EEAE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FA5-8777-46A8-8B10-C9F4777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096-991C-4AA3-9385-C77C251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A0A-BA8D-4BFD-8986-CE1060F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01BC-E941-4418-AAC8-F0F9D5C03E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