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05980"/>
        <c:axId val="40240958"/>
      </c:barChart>
      <c:catAx>
        <c:axId val="99905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40958"/>
        <c:crosses val="autoZero"/>
        <c:auto val="1"/>
        <c:lblAlgn val="ctr"/>
        <c:lblOffset val="100"/>
        <c:noMultiLvlLbl val="0"/>
      </c:catAx>
      <c:valAx>
        <c:axId val="40240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05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BA3-65C3-4887-9C31-DA29DFAB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F37-0B05-477A-9237-3C19D585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970C-B032-42B0-9E36-418CA7C0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861-1C36-4540-89A8-CD462BC2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370B-04E0-41C3-AE2A-BEFA0CCB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A5D-AED7-4FD3-B191-B535718C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AE8-5920-4311-BF65-8F7601AC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AC0-1562-4BFF-88E6-762A7E05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360-4E99-44F6-A8F3-62D62408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7F1-CCA1-4B8A-A1BD-768F6827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643-28C4-4940-AE64-5A8F3095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041-0B13-4632-B05E-A7FF9F3D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B204D-7CDE-45E6-A53E-3B4ED456B8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